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A9584-033D-4971-9519-B0ED3A6BE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DC175-A1E5-4EC2-8C6D-F1D64C676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Daha önceki bütün derslerde olduğu gibi bu ders de başlangıcında belirtilen gündem ve oturum amaçlarına benzer bir şekilde düzenlenmelid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A2B2F-3368-4986-A6CD-B066A77B0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E6CFE-A593-44A0-A287-F657175690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05B-EA82-4E62-88A8-D3F5B846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DE9-83FC-478B-9B79-D3618C26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B5A-E7F5-4473-A212-8B2D5CE5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86E-BF23-4C8D-B248-AD36F835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26F-176B-4142-8C3D-B3989014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556D-5752-45D3-8AFE-BF4C2153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290-A317-4032-89A2-4F4CAFD7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805-DD01-46A1-A7AC-A47EF990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C34-8871-490A-B217-BBF9C92F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6C0-F20F-4B77-8908-2AF3A687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938-9F10-4573-98AC-16FF3E5B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78C-287E-4D8D-BCF2-C8C74307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CE2D5-198A-4E07-B0FB-F8E0ABCF4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Oturum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Günlük Gözden Geçi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kimler ve Savcılar İçin İleri Düzey Bilişim Suçları Eğiti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Dersin sonunda öğrencil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r önceki günün faaliyetlerin anlaşım oldukları kısımlarını belirleye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lgilerinin gerekli düzeye getirilmesi için belgeleri gözden geçirmeleri gereken alanları belirleyebilecekler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Günd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20920"/>
            <a:ext cx="851364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100" spc="-1" strike="noStrike">
                <a:solidFill>
                  <a:srgbClr val="000000"/>
                </a:solidFill>
                <a:latin typeface="Calibri"/>
              </a:rPr>
              <a:t>Birinci Günün Konuları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ursun Açılışı ve Tanış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Bir Soruşturmanın Geliştirilme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oruşturmalar Hakkı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luslar arası İşbirliğ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luslar arası İşbirliği Hakkı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Zanlının Belirlenmesi Konusu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83760" y="450072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OPERATOR</dc:creator>
  <dc:description>Uğur Mumucu Caddesi Kırçiçeği Sokağı No: 8/2
TR-06700 G.O.P Çankaya/ANKARA
Fax: +90-312- 441 91 05</dc:description>
  <cp:keywords>www.erenoglu.com.tr</cp:keywords>
  <dc:language>en-US</dc:language>
  <cp:lastModifiedBy>OPERATOR</cp:lastModifiedBy>
  <dcterms:modified xsi:type="dcterms:W3CDTF">2013-08-05T07:04:16Z</dcterms:modified>
  <cp:revision>15</cp:revision>
  <dc:subject>ERENOGLU CONSULTANCY, TRANSLATION AND FOREIGN TRADE LTD CO.</dc:subject>
  <dc:title>ERENOĞLU DANIŞMANLIK TERCÜMANLIK VE DIŞ TİCARET LTD. ŞTİ.</dc:title>
</cp:coreProperties>
</file>